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CB12-903A-4532-83A8-7874F0CD0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13B5-199B-4A9C-B211-5025D2ACA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C8E7-DA70-4DFD-B716-B6AE14059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5D73-031F-44F6-8480-2882D9DFB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9205-6255-4B9B-9BCE-C0F2E5735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F5AB-0C78-4B5C-B930-AF9126ABF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92D5-B9E8-4A73-880A-9A0A2E58A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977D-13E5-46DE-8F92-AE5006AB1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F61C-D535-4CC9-9F25-93E9B6888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642A-D4D3-4C17-8240-EF358AC69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4EC4-1961-4FB3-ABCC-9504B7056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36FD-54C0-40FD-B83E-B7C79F560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EC10-4222-496D-9ADE-E76FE43D4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762C-65B8-426A-A77C-C046E3649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5F80-AF67-4EF9-982E-76792C023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30F8-A575-4912-AF94-C92529640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5C0B-86F6-4B99-9DE5-E7CB17EEB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EAF6-0B8E-4FDB-988B-50F82C7FB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7939-69B7-4E6A-BF95-2222A54F7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24FE-18FD-4F87-B160-53A22F0AF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49DF-D153-4BBF-AA3B-7DE0291A6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409D-0942-400F-A61E-F0E5796C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E9C4-D103-4AE3-BFDE-13258E28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E48C-C283-4EE2-9D69-248557BC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138E-38D5-49AF-8C15-95929B66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09FF-3F8A-46E5-8118-7626DBCD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B2DE-A795-4FBA-B0E5-ABB9B494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3D8A-8CF2-4FB4-BCFA-DE06BADC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3D19-B127-4F47-87A9-D4D6956D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494D-E652-44E3-9686-AE93DB2D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A2F6-3983-4DEC-9B68-1C480E2C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7A0A-5BF3-4A6D-9A14-E0E8CE89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7F36-A09A-401D-8538-11597A97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FBE1-4B83-4AD0-BEA7-90BF9D5C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6B1E-5255-4661-987C-B7342AF1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7E4C-2BD3-4C4D-A402-6D199273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B9C5-3664-4908-A065-44AF3A49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2E0D-1134-4D51-B379-DA51CDEB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DB1B-23A4-4ED1-8D4A-2CF7B83A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063F-5303-4474-BA26-7928341C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BE0A-8C84-4AF3-B21B-125C74F5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1107-3A7C-4074-8E73-8D24B070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61D0-449B-4656-85F9-DEF86397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A494-0C0B-4EBF-AEC1-5665F3F9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0E2D-CCC3-47CB-893E-40CB4258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83280" indent="-262800">
              <a:spcBef>
                <a:spcPts val="799"/>
              </a:spcBef>
              <a:buClr>
                <a:srgbClr val="0e18f3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51560" indent="-210240">
              <a:spcBef>
                <a:spcPts val="799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72040" indent="-210240">
              <a:spcBef>
                <a:spcPts val="7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92520" indent="-21024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B5B6-05D5-4B2D-BB61-2B7A24479E9A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83280" indent="-262800">
              <a:spcBef>
                <a:spcPts val="799"/>
              </a:spcBef>
              <a:buClr>
                <a:srgbClr val="0e18f3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51560" indent="-210240">
              <a:spcBef>
                <a:spcPts val="799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72040" indent="-210240">
              <a:spcBef>
                <a:spcPts val="7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92520" indent="-21024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E2D2-1BA4-4C3C-A4DC-14AFE133BC7F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Poetry Terms!!!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ersonification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 figure of speech in which human qualities are attributed to animals, inanimate objects, or idea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378440" y="3946680"/>
            <a:ext cx="57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ms of the tree swayed in the w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Simil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 figure of speech in which a comparison is made between two unlike things using the word “like” or “as”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 feel like I could die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149480" y="437508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nternal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Rhym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 rhyme between words in the same lin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777960" y="3462480"/>
            <a:ext cx="30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y was very hai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Ton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reflection of an author’s attitude toward his or her subject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mager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ords and phrases that create vivid sensory experiences for a reader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Metaphor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 figure of speech in which an implied comparison is made between two unlike thing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Mood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feeling or atmosphere that a writer creates for a reader; reflection of an author’s attitude toward a subject or them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Stanz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ne of the divisions of a poem, composed of two or more lines usually characterized by a common pattern of meter, rhyme, and number of line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ouple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wo lines of verse with similar end-rhymed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Free Vers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Verse composed of variable, usually unrhymed lines having no fixed metrical pattern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lliteration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repetition of constant sounds at the beginning of word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640160" y="3808440"/>
            <a:ext cx="411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us Always ate App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Give Glen Good Grap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Sonne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 lyric poem of fourteen lines, following one or another of several set rhyme-scheme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Figurative Languag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Language enriched by word images and figures of speech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522800" y="3548160"/>
            <a:ext cx="59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 was as big as a beach b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Odens’ Raven” said Ron Burgen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Hyperbol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 figure of speech which uses a deliberate exaggeration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807560" y="3848040"/>
            <a:ext cx="58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 was so hungry, he could eat a ho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06668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819440" y="4546440"/>
            <a:ext cx="48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so loud at the concert that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n’t hear myself thin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Rhym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rrespondence of terminal sounds of words or of lines of vers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048040" y="3705120"/>
            <a:ext cx="51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 I am ate Green Eggs and H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Symbol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 concrete thing used to suggest something larger and more abstract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Sensory Detail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etails perceived by sight, hearing, smell, or any mode by which one perceives stimuli outside or within the body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949320" y="443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Onomatopoei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ords whose sound imitates their suggested meaning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264320" y="3833640"/>
            <a:ext cx="39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M!! Todd hit a homer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ssonanc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close repetition of middle vowel sound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leeting Feet Sweep by Sleeping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eese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4:38:45Z</dcterms:created>
  <dc:creator>Buffalo Grove High School</dc:creator>
  <dc:description/>
  <dc:language>en-US</dc:language>
  <cp:lastModifiedBy>BGHS</cp:lastModifiedBy>
  <dcterms:modified xsi:type="dcterms:W3CDTF">2010-03-01T13:56:37Z</dcterms:modified>
  <cp:revision>11</cp:revision>
  <dc:subject/>
  <dc:title>Poetry Terms!!!</dc:title>
</cp:coreProperties>
</file>